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414-B7E5-4BCC-B3D2-2CBE8799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C0E-608E-44FC-A3C6-4AA7EFF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E24-ED46-431F-B8B0-60FDEC18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86A-DC1A-43D3-BEF3-8F47D3A7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8AA-A2D1-4B55-8589-4C2BC95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623-7A84-418B-A359-C81EEB72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D06-BDF2-4266-8B7D-F1C3D53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EED-4EF5-4D07-96F5-52CA6A1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D78-0C88-4977-887C-338E792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422-9FAF-4B98-B51C-4DCF8CF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E34-D5B4-4DAC-8DCE-29BD8F9F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7C1-328F-4E42-9E65-9582EC0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F83-CC83-4860-8646-A54ADBC7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27920" y="272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762120" y="3200400"/>
            <a:ext cx="5978520" cy="1221840"/>
            <a:chOff x="762120" y="3200400"/>
            <a:chExt cx="5978520" cy="1221840"/>
          </a:xfrm>
        </p:grpSpPr>
        <p:pic>
          <p:nvPicPr>
            <p:cNvPr id="43" name="TCLface1" descr=""/>
            <p:cNvPicPr/>
            <p:nvPr/>
          </p:nvPicPr>
          <p:blipFill>
            <a:blip r:embed="rId2"/>
            <a:stretch/>
          </p:blipFill>
          <p:spPr>
            <a:xfrm>
              <a:off x="5715000" y="3276720"/>
              <a:ext cx="1025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62120" y="3200400"/>
              <a:ext cx="49528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Watch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l Recording and Agent 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47120" y="164448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06920" y="16002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cheduled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4320" y="495288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gen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6640" y="5181480"/>
            <a:ext cx="54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160" y="440064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rd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0" y="243828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Nortel Sympo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536724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emens Hi-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6080" y="4495680"/>
            <a:ext cx="29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C/ Q-maste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ahom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600" y="2514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nasonic T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228600"/>
            <a:ext cx="7133040" cy="1008360"/>
            <a:chOff x="1066680" y="228600"/>
            <a:chExt cx="7133040" cy="1008360"/>
          </a:xfrm>
        </p:grpSpPr>
        <p:pic>
          <p:nvPicPr>
            <p:cNvPr id="55" name="TCLfull%20head" descr=""/>
            <p:cNvPicPr/>
            <p:nvPr/>
          </p:nvPicPr>
          <p:blipFill>
            <a:blip r:embed="rId3"/>
            <a:stretch/>
          </p:blipFill>
          <p:spPr>
            <a:xfrm>
              <a:off x="1066680" y="304920"/>
              <a:ext cx="7542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828440" y="228600"/>
              <a:ext cx="63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ALKING</a:t>
              </a: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COMPUTER</a:t>
              </a: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1066680"/>
              <a:ext cx="6172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533520"/>
              <a:ext cx="5181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23320" y="4495680"/>
            <a:ext cx="73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Maximising Interaction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32876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Computer Telephon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W%20Integration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5943600" cy="337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solidFill>
            <a:srgbClr val="fdf10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util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TA, and custo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-ins provide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te Start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Free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, Queue and Call Typ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fast search and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ed Agent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raining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00212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00600" y="2514600"/>
            <a:ext cx="3962520" cy="2514600"/>
          </a:xfrm>
          <a:prstGeom prst="wedgeRectCallout">
            <a:avLst>
              <a:gd name="adj1" fmla="val -103847"/>
              <a:gd name="adj2" fmla="val 587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Enhanced Service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Fewer escalated c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gher First Call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educed multiple hand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Accelerated New Recruit Develo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educed costly “ramp up”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Improved Call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4592"/>
                </a:solidFill>
                <a:latin typeface="Arial"/>
                <a:ea typeface="Times New Roman"/>
              </a:rPr>
              <a:t>Reduced Call D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c4592"/>
                </a:solidFill>
                <a:latin typeface="Tahoma"/>
              </a:rPr>
              <a:t>Better Conversion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4592"/>
                </a:solidFill>
                <a:latin typeface="Arial"/>
                <a:ea typeface="Times New Roman"/>
              </a:rPr>
              <a:t>Increase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2876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the return on your training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2876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AirNZ%20Airbus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163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3809880"/>
            <a:ext cx="3809880" cy="2286000"/>
          </a:xfrm>
          <a:prstGeom prst="rect">
            <a:avLst/>
          </a:prstGeom>
          <a:solidFill>
            <a:srgbClr val="fdf10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entres, 180 seats and 120 s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Agents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 8 po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I calculated at less than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anner_GreenLogo%5B1%5D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352680" cy="131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48320" y="3809880"/>
            <a:ext cx="3809880" cy="2286000"/>
          </a:xfrm>
          <a:prstGeom prst="rect">
            <a:avLst/>
          </a:prstGeom>
          <a:solidFill>
            <a:srgbClr val="fdf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food products mult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in Australia and 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 IPS2000 &amp; Q-mast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st Teleperformance CRM Grand Prix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371600" y="3352680"/>
            <a:ext cx="5978520" cy="1221840"/>
            <a:chOff x="1371600" y="3352680"/>
            <a:chExt cx="5978520" cy="1221840"/>
          </a:xfrm>
        </p:grpSpPr>
        <p:pic>
          <p:nvPicPr>
            <p:cNvPr id="157" name="TCLface1" descr=""/>
            <p:cNvPicPr/>
            <p:nvPr/>
          </p:nvPicPr>
          <p:blipFill>
            <a:blip r:embed="rId2"/>
            <a:stretch/>
          </p:blipFill>
          <p:spPr>
            <a:xfrm>
              <a:off x="6324480" y="3429000"/>
              <a:ext cx="1025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371600" y="3352680"/>
              <a:ext cx="49528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Watch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l Recording and Agent 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6680" y="228600"/>
            <a:ext cx="7133040" cy="1008360"/>
            <a:chOff x="1066680" y="228600"/>
            <a:chExt cx="7133040" cy="1008360"/>
          </a:xfrm>
        </p:grpSpPr>
        <p:pic>
          <p:nvPicPr>
            <p:cNvPr id="160" name="TCLfull%20head" descr=""/>
            <p:cNvPicPr/>
            <p:nvPr/>
          </p:nvPicPr>
          <p:blipFill>
            <a:blip r:embed="rId3"/>
            <a:stretch/>
          </p:blipFill>
          <p:spPr>
            <a:xfrm>
              <a:off x="1066680" y="304920"/>
              <a:ext cx="7542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828440" y="228600"/>
              <a:ext cx="63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ALKING</a:t>
              </a: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COMPUTER</a:t>
              </a: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1066680"/>
              <a:ext cx="6172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533520"/>
              <a:ext cx="5181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718000" y="18590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5880" y="5027760"/>
            <a:ext cx="322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@tcl.co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4 9 481 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4 9 481 1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190600"/>
            <a:ext cx="5715000" cy="392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dioWatch was designed for Contact Centres who wish to record for Coaching and Quality Assurance purposes, but don’t need to record every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962520"/>
            <a:ext cx="2438280" cy="1371600"/>
          </a:xfrm>
          <a:prstGeom prst="wedgeRectCallout">
            <a:avLst>
              <a:gd name="adj1" fmla="val -225129"/>
              <a:gd name="adj2" fmla="val -3449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038480"/>
            <a:ext cx="237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cheduler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Enables supervisors to schedule agents to be recorded with a simple mouse 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600" y="13716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lick Record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RoD%20Reference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486240" cy="133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4120" y="2743200"/>
            <a:ext cx="2514600" cy="1981080"/>
          </a:xfrm>
          <a:prstGeom prst="wedgeRectCallout">
            <a:avLst>
              <a:gd name="adj1" fmla="val -146652"/>
              <a:gd name="adj2" fmla="val 33972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i-A%20RoD%20Progress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3467160" cy="143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2743200"/>
            <a:ext cx="24382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Record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ingle mouse click ini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Pop-up reference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eference fields used for search 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ird party R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treaming for real-time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9240" y="1447920"/>
            <a:ext cx="51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phisticated Search and Retrieval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i-A%20Search" descr=""/>
          <p:cNvPicPr/>
          <p:nvPr/>
        </p:nvPicPr>
        <p:blipFill>
          <a:blip r:embed="rId2"/>
          <a:stretch/>
        </p:blipFill>
        <p:spPr>
          <a:xfrm>
            <a:off x="457200" y="2181240"/>
            <a:ext cx="5715000" cy="392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48520" y="2743200"/>
            <a:ext cx="2438280" cy="1447920"/>
          </a:xfrm>
          <a:prstGeom prst="wedgeRectCallout">
            <a:avLst>
              <a:gd name="adj1" fmla="val -175587"/>
              <a:gd name="adj2" fmla="val 13814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743200"/>
            <a:ext cx="2438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earch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Caller Lin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eference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ime an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earch archived recor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066680"/>
            <a:ext cx="861048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55880"/>
            <a:ext cx="5715000" cy="411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5120" y="137304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and coach against recorded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2438280" cy="1371600"/>
          </a:xfrm>
          <a:prstGeom prst="wedgeRectCallout">
            <a:avLst>
              <a:gd name="adj1" fmla="val -151759"/>
              <a:gd name="adj2" fmla="val 54629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11480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aching notes can be added and incorporated into the evaluation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800" y="13716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ily create highly customised evaluation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i-A%20Template%20Build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952880" cy="412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48520" y="3200400"/>
            <a:ext cx="2438280" cy="1600200"/>
          </a:xfrm>
          <a:prstGeom prst="wedgeRectCallout">
            <a:avLst>
              <a:gd name="adj1" fmla="val -136069"/>
              <a:gd name="adj2" fmla="val -19541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352680"/>
            <a:ext cx="2438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Evaluation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Unlimited 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Add to th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ver 400 evaluation criteria supplied as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fine weighting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400" y="15238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le individual, team and centr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Team%20by%20Individual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581640" cy="2535480"/>
          </a:xfrm>
          <a:prstGeom prst="rect">
            <a:avLst/>
          </a:prstGeom>
          <a:ln w="0">
            <a:noFill/>
          </a:ln>
        </p:spPr>
      </p:pic>
      <p:pic>
        <p:nvPicPr>
          <p:cNvPr id="107" name="Detailed%20Report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4419720" cy="251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4724280"/>
            <a:ext cx="2438280" cy="1447920"/>
          </a:xfrm>
          <a:prstGeom prst="wedgeRectCallout">
            <a:avLst>
              <a:gd name="adj1" fmla="val -93879"/>
              <a:gd name="adj2" fmla="val -7730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00600"/>
            <a:ext cx="2362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Individual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tailed or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Graphical or Ta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velopment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ren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724280"/>
            <a:ext cx="2438280" cy="1447920"/>
          </a:xfrm>
          <a:prstGeom prst="wedgeRectCallout">
            <a:avLst>
              <a:gd name="adj1" fmla="val -84898"/>
              <a:gd name="adj2" fmla="val -76643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eam and Cent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By supervisor or evalu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Graphical or Ta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lexible filter allows easily customise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XML export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" y="152388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sample and example calls in play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Mi-A%20Playlist" descr=""/>
          <p:cNvPicPr/>
          <p:nvPr/>
        </p:nvPicPr>
        <p:blipFill>
          <a:blip r:embed="rId2"/>
          <a:stretch/>
        </p:blipFill>
        <p:spPr>
          <a:xfrm>
            <a:off x="457200" y="2013120"/>
            <a:ext cx="5715000" cy="3993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48520" y="3200400"/>
            <a:ext cx="2438280" cy="1447920"/>
          </a:xfrm>
          <a:prstGeom prst="wedgeRectCallout">
            <a:avLst>
              <a:gd name="adj1" fmla="val -121810"/>
              <a:gd name="adj2" fmla="val 86842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Play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Create multiple playl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rag and Drop” from agent f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Add notes to recor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320" y="137160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le automated archiving and recording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Mi-A%20Archive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410080" cy="417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48520" y="3200400"/>
            <a:ext cx="2438280" cy="1447920"/>
          </a:xfrm>
          <a:prstGeom prst="wedgeRectCallout">
            <a:avLst>
              <a:gd name="adj1" fmla="val -206837"/>
              <a:gd name="adj2" fmla="val -8750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3526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rch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Multiple archive rou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letion and/or bac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By agent, recording type and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23:44:09Z</dcterms:created>
  <dc:creator>davids</dc:creator>
  <dc:description/>
  <dc:language>en-US</dc:language>
  <cp:lastModifiedBy>davids</cp:lastModifiedBy>
  <dcterms:modified xsi:type="dcterms:W3CDTF">2004-07-22T01:48:42Z</dcterms:modified>
  <cp:revision>17</cp:revision>
  <dc:subject/>
  <dc:title>PowerPoint Presentation</dc:title>
</cp:coreProperties>
</file>